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6EB1-E2B8-4B42-B457-90B1D7E2914D}" type="slidenum">
              <a:rPr b="1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all the workfile prefixes and users are defined in GeoCat Configuration Setup because of the way that database matching is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nale for this is that the workfile records are considered separate databases depending on the workfile ID, so since the Z39.50 protocol requires a match on server name [or ip#], port #, and database name, you do have to have each cataloguer's workfile extension in the GeoCat Configuration Setup databases field.  For servers, you may want to enter plain old MAIN*BIBWORK and MAIN*AUTWORK.  You need enter the workfiles in GeoParms only if you plan to use GeoPac as your search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, that is, if the databases aren't entered in GeoCat Config, with no match on the database name, the workfile record is considered a new record and you can only add it to the workfile database, not update or delete the existing record in the OTHER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501-1777-4971-9DDB-13191F08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339-FDE6-4D5C-8000-B2F9B16F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CF7-79A3-4AFB-A477-93D3AAD9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856-6B5A-408B-91EF-38EA7055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485-BF57-4B2A-B1E1-ABAC2A27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E6B-F45D-46E3-A8E0-BEC5E791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929-0246-4D98-B87E-7621384A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9D1-2372-484C-94DE-7FA0BEAF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10D-62E5-478C-9A7B-40C483FD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2AF-B50C-44A2-955F-AAFCFB4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D51-0BDD-491A-B8A6-485DB86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4D3-1F53-485E-A998-406638F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1CB9-FFEC-4E9A-86D5-6929E26A4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28600" y="228600"/>
          <a:ext cx="628956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28956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447920" y="4267080"/>
          <a:ext cx="406404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267080"/>
                    <a:ext cx="4064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28600" y="7848720"/>
          <a:ext cx="5329080" cy="100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7848720"/>
                    <a:ext cx="532908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260880" y="3008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09680" y="2666880"/>
          <a:ext cx="2505240" cy="43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2666880"/>
                    <a:ext cx="25052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338280" y="347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558-5027-4BF5-96A8-E712E3C1DA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85800" y="304920"/>
          <a:ext cx="582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582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457200" y="3962520"/>
            <a:ext cx="6124680" cy="4333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1523880" y="2743200"/>
            <a:ext cx="4964400" cy="2878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280" y="1371600"/>
            <a:ext cx="6705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upports the full ALA character set as well as the ISO Latin 1 diacritic set (F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plays and permits the entry of all diacritics including transliterated 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equently used diacritics can  be saved as st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acritic entered simply by pressing “hot key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C74-894B-479D-AD73-0617F6E256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5753160" cy="498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762120" y="304920"/>
          <a:ext cx="5829120" cy="11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1600200"/>
            <a:ext cx="297180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 field help (F1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p up explanation window of f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idelines on inputting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te definable help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l GeoCat help is also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304920" y="1752480"/>
            <a:ext cx="349560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2895480" y="4267080"/>
            <a:ext cx="3738600" cy="4006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H="1" flipV="1">
            <a:off x="3123720" y="289512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05520" y="37339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BE0-A34D-42DC-8BB7-110FF7092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762120" y="30492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80880" y="5943600"/>
            <a:ext cx="4818240" cy="2882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133720" y="4191120"/>
            <a:ext cx="4438440" cy="344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3505320" y="2133720"/>
            <a:ext cx="3095640" cy="2828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2286000"/>
            <a:ext cx="29718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default workform can be defined which will automatically load up when you choose to create a new record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s/Configuration/MARC defaults/Workfor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524-FA0B-42AF-BA50-0DC07C798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22860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457200" y="2666880"/>
            <a:ext cx="5329080" cy="320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1295280" y="5029200"/>
            <a:ext cx="5329440" cy="3206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0880" y="1371600"/>
            <a:ext cx="6324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s can easily be replaced or merg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op down list box allows you to decide which two records will be affe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g by tag merge feature allows you to efficiently and exactly define which to ret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4038480"/>
            <a:ext cx="53316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6400800"/>
            <a:ext cx="533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A88-13C6-4D47-B5C5-23770BA300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762120" y="22860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57200" y="4114800"/>
            <a:ext cx="5037120" cy="4710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057400" y="3581280"/>
            <a:ext cx="4397400" cy="3232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1600200"/>
            <a:ext cx="60962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mpts at authority controlled fie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voke authority search by pressing F5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and/or modify authority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k bibliographic record to appropriate authority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6934320"/>
            <a:ext cx="7621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8534520"/>
            <a:ext cx="10666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2A0-6CDF-4A9E-AADC-55FA27535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16560" cy="33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762120" y="228600"/>
          <a:ext cx="5829120" cy="11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2860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457200" y="4952880"/>
            <a:ext cx="4516560" cy="3321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1676520"/>
            <a:ext cx="61722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ork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ton to view associated bibliographic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a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utton will return you to the authority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 off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ink sear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ox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ton to add to your  recor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85840" y="4572000"/>
            <a:ext cx="30492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5334120"/>
            <a:ext cx="9907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7543800"/>
            <a:ext cx="5331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7DF-4E98-40D2-A2B0-ACB00AFBF5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5429520" cy="5076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3895560" cy="252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762120" y="304920"/>
          <a:ext cx="5829120" cy="11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371600"/>
            <a:ext cx="60199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is verified against GeoMARC and against ADVANCE MARC tab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you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v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r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s Window pop up if any are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s do not need to be corrected to save the record to a Workfi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s do need to be corrected before the record can be saved to the MAIN*BIBMASTER data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6A1-D429-462F-AFF5-3862C17EE9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4799160" cy="41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62120" y="228600"/>
          <a:ext cx="5829120" cy="11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2860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523880"/>
            <a:ext cx="5943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eature more than simply saving a record to a databa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add, delete and update records to all subsets of your library’s data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uccessful save will return an Updated Local Number for th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ve a record to a workfile located on your individual workstation or on your        net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forms (i.e. templates) are established her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1B0-0F16-4D63-A7C0-0C2A751F12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28600"/>
          <a:ext cx="628956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28956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8600" y="7848720"/>
          <a:ext cx="5329080" cy="100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848720"/>
                    <a:ext cx="532908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565280" y="1905120"/>
            <a:ext cx="313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under Bay Public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468600"/>
            <a:ext cx="383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o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ush to Geo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ush to AdvA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o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py catalogu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244-054C-499B-A5B8-7E25102A6F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22860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914400"/>
          <a:ext cx="25048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14400"/>
                    <a:ext cx="25048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33520" y="1676520"/>
            <a:ext cx="4022640" cy="4906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48320" y="1752480"/>
            <a:ext cx="205740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display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ull down 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ush to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ernatively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trl+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ush to Acq Work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447920" y="5715000"/>
            <a:ext cx="3565440" cy="3133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29200" y="624852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ush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e MARC record is simply copied into the Cataloguing wind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08640" y="8799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528-9018-4D4B-9412-2CDDC49E1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62120" y="30492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4920" y="914400"/>
          <a:ext cx="25048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14400"/>
                    <a:ext cx="25048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262560" y="8869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3089160" cy="406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29000" y="1752480"/>
            <a:ext cx="3276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ve records into a “Baske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 up to ten different bas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rt alphabe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e views: Brief, Detail, and MAR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ve contents of a bask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a diske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your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to a network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867280"/>
            <a:ext cx="297180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ort bibliographic records to Proc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perform the ex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rite to fil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omm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fy record 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200400" y="5715000"/>
            <a:ext cx="3473280" cy="26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B1F-E96F-41D1-932C-561A76B10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62120" y="30492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186600" y="8869320"/>
            <a:ext cx="29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80880" y="1523880"/>
            <a:ext cx="6172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P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s your search engi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P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an search any Z39.50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 records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em 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 your search engi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, edit  and save to your server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33520" y="3657600"/>
            <a:ext cx="2367000" cy="2887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3429000" y="4800600"/>
            <a:ext cx="3254400" cy="2859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4419720"/>
            <a:ext cx="16765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57200" y="6858000"/>
            <a:ext cx="2778120" cy="20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2286000" y="7238520"/>
            <a:ext cx="11430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657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P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s search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81532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s search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44956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s editing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428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47760" y="830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D38-8C54-4E94-937E-D6049D07FF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762120" y="30492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752480"/>
            <a:ext cx="60195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s search interfa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e data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e search inde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dit butt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modify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trieve butt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ave to local workf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09480" y="3962520"/>
            <a:ext cx="5759640" cy="42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FCC-CFA5-464A-B613-F8D8A6845D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762120" y="228600"/>
          <a:ext cx="5829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5829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04920" y="3505320"/>
            <a:ext cx="6289560" cy="4719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1295280"/>
            <a:ext cx="60958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C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s edit windo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add, update, and remove ta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standard Windows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s can be tiled or casca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olbar of ic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op down me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rtcut key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4A9-EA06-472C-B793-670EE2393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62120" y="22860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770200" cy="352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990720" y="4343400"/>
            <a:ext cx="5448240" cy="3538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52680" y="1676520"/>
            <a:ext cx="312444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er and fixed field ent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ified by the use of a form (F8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tailed drop down menu li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possible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ined in GeoMa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E05-8F5A-4424-A035-35947A57E1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62120" y="228600"/>
          <a:ext cx="58291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58291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04920" y="838080"/>
          <a:ext cx="25225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38080"/>
                    <a:ext cx="2522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715000" y="8381880"/>
          <a:ext cx="9144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8381880"/>
                    <a:ext cx="9144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186600" y="886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33520" y="2971800"/>
            <a:ext cx="5753160" cy="4981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3809880" y="4267080"/>
            <a:ext cx="196236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514600" y="6858000"/>
            <a:ext cx="4010040" cy="136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1752480"/>
            <a:ext cx="60199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g, indicator and subfield values available on line (F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ghlight your choice from the drop down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ferred into the record in the right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066680" y="4724280"/>
            <a:ext cx="27432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447560" y="640080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856-C4C1-4E28-A5D5-48A85AE93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5:59:27Z</dcterms:created>
  <dc:creator>Dirkje Trivett</dc:creator>
  <dc:description/>
  <dc:language>en-US</dc:language>
  <cp:lastModifiedBy>Josie Larocca</cp:lastModifiedBy>
  <cp:lastPrinted>1999-06-29T17:45:27Z</cp:lastPrinted>
  <dcterms:modified xsi:type="dcterms:W3CDTF">2000-11-06T14:29:50Z</dcterms:modified>
  <cp:revision>16</cp:revision>
  <dc:subject/>
  <dc:title>No Slide Title</dc:title>
</cp:coreProperties>
</file>